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975D0-3C98-4A51-A4A7-51BF3FF042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F7FCA-0FA5-4F29-A1E5-9085C7D3A1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09EA7-FBB4-48FD-84CC-91CEEC3CD6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273E3-F764-4ADC-8D81-31A8D8E576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0BC27-BCCA-4DB2-9F07-49597B9C04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D912F-3C30-401E-BE9B-156C833F7A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3013C-521C-46FC-B0AC-5E6603A26D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F042-1238-4ECC-9A3C-1227F9B75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406D-3BCA-4B4D-A261-864A23D1A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5EC3-7747-4D75-8887-EBBB6F02A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2245-6498-4EA2-A5C6-A62E275A0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336E-8D0A-4D6B-A0DB-EABCF8D1C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36FB-EEC9-4C29-9D50-1D7C3F300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488B-770A-46DA-8BD3-A2EE6BE35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7792-1012-4FD4-8F46-72418DABB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3035-D931-4FB4-A155-7E9D2FBBA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51A1-4DA4-46C7-BA7E-220CB79F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2C38-DF42-4A77-BFB9-87C957E32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C1FA-6377-4596-9C35-B33E2AA6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550"/>
              </a:spcBef>
              <a:buClr>
                <a:srgbClr val="008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550"/>
              </a:spcBef>
              <a:buClr>
                <a:srgbClr val="4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06231-6C42-4D2D-BA70-0391C2F920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ES OF TODAY’S ACTIVIT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PIC: Introductory Activ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After today’s activity, you will be able 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Identify the 8 causal principles that will guide the activities in this cla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Match the causal principle to scenarios about the Earth and environmental proce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inciple #8.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eedback Loop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can accelerate, decelerate, or dampen chang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ad"/>
                </a:solidFill>
                <a:latin typeface="Arial"/>
              </a:rPr>
              <a:t>Positive feedback</a:t>
            </a: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: a change in the system causes further changes in the system such that some component in the system </a:t>
            </a:r>
            <a:r>
              <a:rPr b="0" i="1" lang="en-US" sz="2200" spc="-1" strike="noStrike">
                <a:solidFill>
                  <a:srgbClr val="0000ad"/>
                </a:solidFill>
                <a:latin typeface="Arial"/>
              </a:rPr>
              <a:t>increases overall</a:t>
            </a: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ad"/>
                </a:solidFill>
                <a:latin typeface="Arial"/>
              </a:rPr>
              <a:t>Negative feedback</a:t>
            </a: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: a change in a system causes and opposite response in the system such that the system is </a:t>
            </a:r>
            <a:r>
              <a:rPr b="0" i="1" lang="en-US" sz="2200" spc="-1" strike="noStrike">
                <a:solidFill>
                  <a:srgbClr val="0000ad"/>
                </a:solidFill>
                <a:latin typeface="Arial"/>
              </a:rPr>
              <a:t>closer to equilibrium</a:t>
            </a: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.  In this case, the negative feedback component will decrease the size of the changes going on in the syst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up work &amp; Homework: Introduction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90" name="Rectangle 3" descr=""/>
          <p:cNvPicPr/>
          <p:nvPr/>
        </p:nvPicPr>
        <p:blipFill>
          <a:blip r:embed="rId1"/>
          <a:stretch/>
        </p:blipFill>
        <p:spPr>
          <a:xfrm>
            <a:off x="378000" y="1212840"/>
            <a:ext cx="854064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UAL PRINCIPLE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228600" y="990720"/>
            <a:ext cx="91440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 Gravitational energy, thermal energy and/or chemical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erg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drive all movement and change of matter on Eart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 A system is 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quilibriu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en energy in the system is balanc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 Matter moves and changes to return a system t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quilibriu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erg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s needed to break bonds and is released when bonds for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5. Temperat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s a measure of the movement of molecules.  Higher temperature means molecules are moving fas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6. When molecules move faster,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nsit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f most substances decreases. Water is an anomaly because liquid water is more dense than i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7. Buoyanc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causes materials to rise or fall due to the relative density of materia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8. Feedback Loop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can accelerate, decelerate, or dampen chan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inciple #1. Gravitational energy, thermal energy and/or chemica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nerg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drive all movement and change of matter on Earth. 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4038480" y="6477120"/>
            <a:ext cx="5105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ttp://us.123rf.com/400wm/400/400/uulgaa/uulgaa0810/uulgaa081000020/3695914-stainless-steel-pot-on-a-gas-stove.jp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Box 7"/>
          <p:cNvSpPr/>
          <p:nvPr/>
        </p:nvSpPr>
        <p:spPr>
          <a:xfrm>
            <a:off x="4876920" y="1600200"/>
            <a:ext cx="4190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bf"/>
                </a:solidFill>
                <a:latin typeface="Arial"/>
                <a:ea typeface="Arial"/>
              </a:rPr>
              <a:t>Chemical energy </a:t>
            </a:r>
            <a:r>
              <a:rPr b="0" lang="en-US" sz="2400" spc="-1" strike="noStrike">
                <a:solidFill>
                  <a:srgbClr val="0000bf"/>
                </a:solidFill>
                <a:latin typeface="Arial"/>
                <a:ea typeface="Arial"/>
              </a:rPr>
              <a:t>in natural gas being burned and converted into </a:t>
            </a:r>
            <a:r>
              <a:rPr b="1" lang="en-US" sz="2400" spc="-1" strike="noStrike">
                <a:solidFill>
                  <a:srgbClr val="0000bf"/>
                </a:solidFill>
                <a:latin typeface="Arial"/>
                <a:ea typeface="Arial"/>
              </a:rPr>
              <a:t>thermal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8" descr="potonstove.jpg"/>
          <p:cNvPicPr/>
          <p:nvPr/>
        </p:nvPicPr>
        <p:blipFill>
          <a:blip r:embed="rId1"/>
          <a:stretch/>
        </p:blipFill>
        <p:spPr>
          <a:xfrm>
            <a:off x="4746600" y="3581280"/>
            <a:ext cx="4397400" cy="2946600"/>
          </a:xfrm>
          <a:prstGeom prst="rect">
            <a:avLst/>
          </a:prstGeom>
          <a:ln w="0">
            <a:noFill/>
          </a:ln>
        </p:spPr>
      </p:pic>
      <p:sp>
        <p:nvSpPr>
          <p:cNvPr id="56" name="TextBox 9"/>
          <p:cNvSpPr/>
          <p:nvPr/>
        </p:nvSpPr>
        <p:spPr>
          <a:xfrm>
            <a:off x="0" y="6248520"/>
            <a:ext cx="3657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ttp://www.brolive.org/photo_gallery/photos-skateboarder-7/alex_ollie_skatepark_bordeaux_skate_ouest_tour_09.sized.jp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0" descr="skateboarder.jpg"/>
          <p:cNvPicPr/>
          <p:nvPr/>
        </p:nvPicPr>
        <p:blipFill>
          <a:blip r:embed="rId2"/>
          <a:stretch/>
        </p:blipFill>
        <p:spPr>
          <a:xfrm>
            <a:off x="0" y="3124080"/>
            <a:ext cx="4495680" cy="2989440"/>
          </a:xfrm>
          <a:prstGeom prst="rect">
            <a:avLst/>
          </a:prstGeom>
          <a:ln w="0">
            <a:noFill/>
          </a:ln>
        </p:spPr>
      </p:pic>
      <p:sp>
        <p:nvSpPr>
          <p:cNvPr id="58" name="TextBox 11"/>
          <p:cNvSpPr/>
          <p:nvPr/>
        </p:nvSpPr>
        <p:spPr>
          <a:xfrm>
            <a:off x="0" y="137160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bf"/>
                </a:solidFill>
                <a:latin typeface="Arial"/>
                <a:ea typeface="Arial"/>
              </a:rPr>
              <a:t>Gravitational energy</a:t>
            </a:r>
            <a:r>
              <a:rPr b="0" lang="en-US" sz="2400" spc="-1" strike="noStrike">
                <a:solidFill>
                  <a:srgbClr val="0000bf"/>
                </a:solidFill>
                <a:latin typeface="Arial"/>
                <a:ea typeface="Arial"/>
              </a:rPr>
              <a:t> can be stored (potential) or drive motion towards Earth (kinetic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inciple #2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ystem is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quilibriu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energy in the system is balanced.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304920" y="1219320"/>
            <a:ext cx="4572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ngs are changing in the system but there is an overall net balanc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ad"/>
                </a:solidFill>
                <a:latin typeface="Arial"/>
                <a:ea typeface="Arial"/>
              </a:rPr>
              <a:t>Q. What is changing in this picture?  How can this container be in </a:t>
            </a:r>
            <a:r>
              <a:rPr b="1" lang="en-US" sz="2400" spc="-1" strike="noStrike">
                <a:solidFill>
                  <a:srgbClr val="0000ad"/>
                </a:solidFill>
                <a:latin typeface="Arial"/>
                <a:ea typeface="Arial"/>
              </a:rPr>
              <a:t>equilibrium</a:t>
            </a:r>
            <a:r>
              <a:rPr b="0" lang="en-US" sz="2400" spc="-1" strike="noStrike">
                <a:solidFill>
                  <a:srgbClr val="0000ad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. Water is being added to and removed from the container.  If the amount added equals the amount removed, the container is i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quilibrium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Box 7"/>
          <p:cNvSpPr/>
          <p:nvPr/>
        </p:nvSpPr>
        <p:spPr>
          <a:xfrm>
            <a:off x="5181480" y="6095880"/>
            <a:ext cx="3962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image.wistatutor.com/content/chemical-equilibrium/dynamic-equilibrium.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5" descr="dynamic-equilibrium.jpg"/>
          <p:cNvPicPr/>
          <p:nvPr/>
        </p:nvPicPr>
        <p:blipFill>
          <a:blip r:embed="rId1"/>
          <a:stretch/>
        </p:blipFill>
        <p:spPr>
          <a:xfrm>
            <a:off x="5105520" y="1600200"/>
            <a:ext cx="36655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inciple #3. Matter moves and changes to return a system to equilibrium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case, there are more molecules on one side of a barrier than the other.  The molecules will move until both sides have the same number of molecules, and therefore are at equilibri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3"/>
          <p:cNvSpPr/>
          <p:nvPr/>
        </p:nvSpPr>
        <p:spPr>
          <a:xfrm>
            <a:off x="838080" y="6581880"/>
            <a:ext cx="746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upload.wikimedia.org/wikipedia/commons/thumb/7/72/Diffusion.en.svg/800px-Diffusion.en.svg.p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800px-Diffusion.en.png"/>
          <p:cNvPicPr/>
          <p:nvPr/>
        </p:nvPicPr>
        <p:blipFill>
          <a:blip r:embed="rId1"/>
          <a:stretch/>
        </p:blipFill>
        <p:spPr>
          <a:xfrm>
            <a:off x="838080" y="2398680"/>
            <a:ext cx="7467840" cy="41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inciple #4.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nerg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is needed to break bonds and is released when bonds form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38098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b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bf"/>
                </a:solidFill>
                <a:latin typeface="Arial"/>
              </a:rPr>
              <a:t>Boiling water requires heat convert liquid water into water vapor (gas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3"/>
          <p:cNvSpPr/>
          <p:nvPr/>
        </p:nvSpPr>
        <p:spPr>
          <a:xfrm>
            <a:off x="457200" y="6324480"/>
            <a:ext cx="74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hatscookingamerica.net/Foto4/BoilingWater.b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5" descr="BoilingWater.bmp"/>
          <p:cNvPicPr/>
          <p:nvPr/>
        </p:nvPicPr>
        <p:blipFill>
          <a:blip r:embed="rId1"/>
          <a:stretch/>
        </p:blipFill>
        <p:spPr>
          <a:xfrm>
            <a:off x="304920" y="2362320"/>
            <a:ext cx="2989080" cy="3657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HeatCool.gif"/>
          <p:cNvPicPr/>
          <p:nvPr/>
        </p:nvPicPr>
        <p:blipFill>
          <a:blip r:embed="rId2"/>
          <a:stretch/>
        </p:blipFill>
        <p:spPr>
          <a:xfrm>
            <a:off x="3621240" y="1219320"/>
            <a:ext cx="4252680" cy="292104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4495680" y="6353280"/>
            <a:ext cx="327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kentchemistry.com/images/links/matter/HeatCool.g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Box 8"/>
          <p:cNvSpPr/>
          <p:nvPr/>
        </p:nvSpPr>
        <p:spPr>
          <a:xfrm>
            <a:off x="4038480" y="457200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Phase change either use up or release heat energy.  Boiling (vaporization) uses up heat while condensation releases hea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inciple #5.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emperatur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is a measure of the movement of molecules.  Higher temperature means molecules are moving faster.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0" y="1225440"/>
            <a:ext cx="4572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mperature can be thought of as the Kinetic Energy of molecules, or 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mal Ener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ad"/>
                </a:solidFill>
                <a:latin typeface="Arial"/>
                <a:ea typeface="Arial"/>
              </a:rPr>
              <a:t>Q. Do molecules move faster in cold or warm ai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. Molecules move faster in warm air because they have more energ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Box 7"/>
          <p:cNvSpPr/>
          <p:nvPr/>
        </p:nvSpPr>
        <p:spPr>
          <a:xfrm>
            <a:off x="5181480" y="6334200"/>
            <a:ext cx="396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aviamet.gr/user_images/molecules1.jp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5" descr="molecules1.jpg"/>
          <p:cNvPicPr/>
          <p:nvPr/>
        </p:nvPicPr>
        <p:blipFill>
          <a:blip r:embed="rId1"/>
          <a:stretch/>
        </p:blipFill>
        <p:spPr>
          <a:xfrm>
            <a:off x="4419720" y="1523880"/>
            <a:ext cx="457200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inciple #6. When molecules move faster, 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ensit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f most substances decreases. Water is an anomaly because liquid water is more dense than ice.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9" name="TextBox 6"/>
          <p:cNvSpPr/>
          <p:nvPr/>
        </p:nvSpPr>
        <p:spPr>
          <a:xfrm>
            <a:off x="304920" y="1671480"/>
            <a:ext cx="4572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mperatu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acts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s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f materi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ad"/>
                </a:solidFill>
                <a:latin typeface="Arial"/>
                <a:ea typeface="Arial"/>
              </a:rPr>
              <a:t>Q. How does increasing temperature cause decreasing densit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. Increasing temperature causes molecules to move faster, spread out and for the density of decreas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Box 7"/>
          <p:cNvSpPr/>
          <p:nvPr/>
        </p:nvSpPr>
        <p:spPr>
          <a:xfrm>
            <a:off x="5105520" y="6400800"/>
            <a:ext cx="396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blank005.tripod.com/geology/graphic/tectonics/beaker.gi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convectionbeaker.gif"/>
          <p:cNvPicPr/>
          <p:nvPr/>
        </p:nvPicPr>
        <p:blipFill>
          <a:blip r:embed="rId1"/>
          <a:stretch/>
        </p:blipFill>
        <p:spPr>
          <a:xfrm>
            <a:off x="5181480" y="1371600"/>
            <a:ext cx="34038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inciple #7.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uoyanc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causes materials to rise or fall due to the relative density of materials.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Q. How does buoyancy make things float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9"/>
          <p:cNvSpPr/>
          <p:nvPr/>
        </p:nvSpPr>
        <p:spPr>
          <a:xfrm>
            <a:off x="0" y="57340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. The density of the object is compared to the density of the fluid it is immersed in.  If the object is less dense than the fluid, it will ris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7010280" y="4495680"/>
            <a:ext cx="213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en.wikipedia.org/wiki/File:Buoyancy.sv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6" descr="500px-Buoyancy.png"/>
          <p:cNvPicPr/>
          <p:nvPr/>
        </p:nvPicPr>
        <p:blipFill>
          <a:blip r:embed="rId1"/>
          <a:stretch/>
        </p:blipFill>
        <p:spPr>
          <a:xfrm>
            <a:off x="2666880" y="1676520"/>
            <a:ext cx="33530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7:20:31Z</dcterms:created>
  <dc:creator>Julie Libarkin</dc:creator>
  <dc:description/>
  <dc:language>en-US</dc:language>
  <cp:lastModifiedBy>Nicole LaDue</cp:lastModifiedBy>
  <dcterms:modified xsi:type="dcterms:W3CDTF">2011-01-05T21:23:08Z</dcterms:modified>
  <cp:revision>320</cp:revision>
  <dc:subject/>
  <dc:title>PowerPoint Presentation</dc:title>
</cp:coreProperties>
</file>